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80B-E13E-437E-993C-6AA39702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BAF-6335-4EF6-A715-A68D03A7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B4C-F6BE-4FCB-9E2F-0A15DC0F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D25-E798-467B-B1EA-F059DD42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C53A-DC27-4B00-A0ED-9AF7D7DF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B94E-7939-4AF8-981C-851B7096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00C6-359B-4EB8-8424-716A0012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3525-A04C-448F-B26D-3664252B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7BDE-0DA8-4803-BB29-21589171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BB59-C7F4-40B2-850E-C1B6D612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A33F-BD36-4A9C-9F0D-11CECFC8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63A-17C3-41F8-96AB-BFB1C9F7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4BD6-18E4-490C-870D-E7F6DFF3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90EF-B0EE-4819-B684-2F943ACE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F406-62ED-4CEE-905E-85D3480E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543A-9F57-405C-8BCB-8EE8013D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D5E3-A674-4470-BDA4-BD0B1AD3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D79-34A8-4EA7-83CA-B24D5148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9C1-A98C-4976-874C-F93EADFF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074-05C2-41CF-AD55-22668743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BD9-365E-455A-8F6A-9991E7E8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68F-D1C1-4A1A-BCCF-FD3D2E1F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AAF-0893-4D00-A183-99892ACD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A76-B0D1-4ACD-84AA-04C3CFEA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7B7A-87A6-4EC3-BBEA-53B9CE015C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EE1C-5049-4835-A019-168DCF465C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716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sgram.narod.ru/" TargetMode="External"/><Relationship Id="rId3" Type="http://schemas.openxmlformats.org/officeDocument/2006/relationships/hyperlink" Target="http://www.orfo.ru/" TargetMode="External"/><Relationship Id="rId4" Type="http://schemas.openxmlformats.org/officeDocument/2006/relationships/hyperlink" Target="http://www.orfo.ru/" TargetMode="External"/><Relationship Id="rId5" Type="http://schemas.openxmlformats.org/officeDocument/2006/relationships/hyperlink" Target="http://www.hi-edu.ru/" TargetMode="External"/><Relationship Id="rId6" Type="http://schemas.openxmlformats.org/officeDocument/2006/relationships/hyperlink" Target="http://www.hi-edu.r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9920"/>
            <a:ext cx="7772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Castellar"/>
              </a:rPr>
              <a:t>СЛОЖНОЕ  ПРЕДЛОЖЕНИЕ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Выполнила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Одолинская Тан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342 групп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astellar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Сравните предлож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 из-за сильного дождя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, потому что шел сильный дождь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0" y="5562720"/>
            <a:ext cx="399096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В чем их различ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ОСНОВОПОЛАГАЮЩИЙ  ВОПРО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2544480"/>
            <a:ext cx="8001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БЫТЬ  ГРАМОТНЫМ –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                </a:t>
            </a: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ЭТО  ПРОСТО?!..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ПРОБЛЕМНЫЕ 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ими  бывают  предложе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овы различия между вид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Одинаковы ли правила пунктуации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ОСНОВНЫЕ    РАЗДЕЛЫ   КУРС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16320" y="1817280"/>
            <a:ext cx="6110640" cy="3459600"/>
            <a:chOff x="1516320" y="1817280"/>
            <a:chExt cx="6110640" cy="3459600"/>
          </a:xfrm>
        </p:grpSpPr>
        <p:sp>
          <p:nvSpPr>
            <p:cNvPr id="97" name="_s138248"/>
            <p:cNvSpPr/>
            <p:nvPr/>
          </p:nvSpPr>
          <p:spPr>
            <a:xfrm>
              <a:off x="3746520" y="2430360"/>
              <a:ext cx="1652760" cy="1755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4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38249"/>
            <p:cNvSpPr/>
            <p:nvPr/>
          </p:nvSpPr>
          <p:spPr>
            <a:xfrm>
              <a:off x="3746520" y="181728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38250"/>
            <p:cNvSpPr/>
            <p:nvPr/>
          </p:nvSpPr>
          <p:spPr>
            <a:xfrm>
              <a:off x="4290840" y="3433680"/>
              <a:ext cx="1652760" cy="1755720"/>
            </a:xfrm>
            <a:prstGeom prst="ellipse">
              <a:avLst/>
            </a:prstGeom>
            <a:solidFill>
              <a:srgbClr val="336699">
                <a:alpha val="50000"/>
              </a:srgbClr>
            </a:solidFill>
            <a:ln w="46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38251"/>
            <p:cNvSpPr/>
            <p:nvPr/>
          </p:nvSpPr>
          <p:spPr>
            <a:xfrm>
              <a:off x="5974200" y="483804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П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38252"/>
            <p:cNvSpPr/>
            <p:nvPr/>
          </p:nvSpPr>
          <p:spPr>
            <a:xfrm>
              <a:off x="3200040" y="3432240"/>
              <a:ext cx="1652760" cy="17557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38253"/>
            <p:cNvSpPr/>
            <p:nvPr/>
          </p:nvSpPr>
          <p:spPr>
            <a:xfrm>
              <a:off x="1516320" y="4836240"/>
              <a:ext cx="16527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Б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stellar"/>
              </a:rPr>
              <a:t>Темы, нас интересующ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сочинен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подчиненные предложения </a:t>
            </a:r>
            <a:r>
              <a:rPr b="0" lang="en-US" sz="3000" spc="-1" strike="noStrike">
                <a:solidFill>
                  <a:srgbClr val="000000"/>
                </a:solidFill>
                <a:latin typeface="Castellar"/>
              </a:rPr>
              <a:t>(с придаточными определительными, изъяснительными, обстоятельственными, условные, сравнительные, уступительные, образа действия и степени, места, времени, причины, цели, следствия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ессоюзные слож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420840"/>
            <a:ext cx="7985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Этапы проведения проек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2255760"/>
            <a:ext cx="80010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1) Выбор и формулировка тем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2) Поиск информ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3) Самостоятельная работа учащих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4) Защита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Как будут представлены результа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Творческие презент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Букл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Информационные 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Учебники по русскому языку (9 кл.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http://rusgram.narod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://www.orfo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6"/>
              </a:rPr>
              <a:t>://www.hi-edu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2T01:20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